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3B1-028E-4482-A274-1F820238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C5C-5B87-4F79-A0B3-A3FEC2D7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604-CED5-45F1-B088-2F6D8177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CFD-D2D0-482B-941F-E86730E5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49C-2155-4F7A-808C-C77716B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13A-0570-40EB-8FC9-C9207791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FF1-7ECB-4E63-92FC-C61D8020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ACC-F428-4C93-BFE1-2B8156F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7BB-E454-4F3D-9F55-9F052EE4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420-14BB-4985-9F60-AF8A4A0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AE4-4AB9-49CC-B9D2-1AABE44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DA3-BBC8-4AEC-A911-75F5CFC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261D-7737-437E-87CC-85717913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jlkezel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nevezési 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EREGY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.Ezeregy.Ejszaka.Mesei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95 (Röv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ezeregy éjszaka meséi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95 (Hossz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EZER~1.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EREGY.DOC;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ájlok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jlné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olsó módosítás id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útum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Hozzáférési jogok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zikai elhelyezke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zvetett hivatko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ncolás,link,alias –ról akkor beszélünk, ha egy fájlhoz, nem csak egy elnevezés segítségével juthatunk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ódszert a UNIX valósítja meg következetesen, de a szemlélet nem idegen a WINDOWS tó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nye a helytakarékos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módszer két változata ism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rev láncolás (hard lin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ét vagy több független, egyenértékű fájlról beszélünk, melyek kizárólag a fájl fizikai elhelyezkedésére vonatkozó információkban kell megegyezze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ználat jelentős többlet feladat az operációs rendszer szám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ilván kell tartania, hogy 1-1 fájlra hány hivatkozás mu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gy láncolás (soft lin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zikai cím helyett a hivatkozott fájl nevét tartalmazza, lehetővé téve azt, hogy a fájl akárhol is előfordulhas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vábbi előnye, hogy az adatállományok tömörítése, vagy alapvető, fizikai címeket érintő átstrukturálása esetén is működőképes ma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indirekt hivatkozás bevezetése adminisztratív problémákat is fel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é a fáj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törölheti az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k kell fizetnie a hely foglalásáé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atalógusok (director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an speciális állomány , melynek tartalma a fájlok nevét és jellemzőit tartalmazó rekordok list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egy folyamat egy fájlra hivatkozik, az operációs rendszer először a katalógust vizsgálja meg, hogy létezik-e egyáltalán ilyen fá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alógus nélkü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os hozzáférésű média (mágnesszalag) esetén nehéz elképzelni könnyen kezelhető, a fájlok alapvető adatait tartalmazó katalógus állomán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ájlok közt szüneteket tartalma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adatok teljes hiányát az olvasófej gyors tekercselés közben is felism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szintű kataló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szintű rendszerekkel szemben az a legnagyobb kifogás hozható hogy 1-1 fájl megkereséséhez legrosszabb esetben az egész katalógust végig kell olvas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ásik gond, hogy minden fájlnak teljesen egyedi neve kell hogy leg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étszintű kataló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második szint bevezetése sokkal áttekinthetőbb rendszert eredmén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felhasználó kaphat egy saját katalógust, míg a közösen használt fájlok egy külön katalógusba kerül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gyes katalógusokat, a katalógusok katalógusa, a FŐ (master) vagy másnéven gyökér (root) katalógus fogja ös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öbbszintű (hierarchikus) fájl rendsz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indulópontja a gyökérkönyvtár, mely tartalmazhat fájlokat és alkatalógusokat, ezek szintén tartalmazhatnak fájlokat és alkatalógusokat és így továb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lrendezés hasonlít egy fára, innen az elnevezé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ágneslemezek alkalmazása lehetővé tette a programok és az adatok tárolás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llományok számának növekedésével szükségessé vált az elnevezésük és rendszerezés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ájlok olyan adatcsoportok, melyek leglényegesebb tulajdonsága, hogy egy név segítségével együttesen kezelhet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az nem kell foglakoznia a felhasználónak, hogy fizikailag hol helyezkednek el az állományok, hanem ezt az operációs rendszer elvégzi helyette (DOS – Disk Operating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osultságok típu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vas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étreh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ellemzők mód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zzáférés mód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ájl fogalma alatt általában tárolt adatokat értünk, de van olyan operációs rendszer (UNIX) , ahol minden külső adatfolyamot (billentyűzet,képernyő) is így kezel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 az általánosítás a programozó számára nagyon előnyös, mert nem kell törődni azzal, hogy milyen perifériáról kap adatokat, és az eredményeket nyomtatóra, képernyőre vagy fájlba kell kií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mezeken tárolt adatok 3 csoportba osztható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iglenes állom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operációs rendszer saját működésének támogatására hoz létre (pl. cserefájl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használói állom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lasszikus értelemben vett fájl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ztratív állom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hoz szükségesek, hogy a felhasználók által létrehozott állományokat kezeljék, szerkezetük, tartalmuk a felhasználók elől rejtet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ájlok tartalmuktól és céljuktól függően nagyon sokfélék lehet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ktuális operációs rendszer szabályai döntik el, hogy ez csak névben vagy felépítésben is megjelenik-e vagy csak értelmezés kérdése az egé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IX –ban nincs megkülönbözt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OS –ban a futtatható bináris állományok(.exe,.com) vagy a parancsnyelvi állományok (.b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lomány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ndszermag azon részét, mely a fájlokkal kapcsolatos műveleteket végzi fájlkezelőnek nevezzük. A nevekből a logikai blokkszámokat kialakítva a folyamatok kéréseit az eszközvezérlőnek továbbít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068640"/>
            <a:ext cx="72741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 folyam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573360"/>
            <a:ext cx="7274160" cy="172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5661000"/>
            <a:ext cx="489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gneslemez egy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4437000"/>
            <a:ext cx="475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zközkez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3716280"/>
            <a:ext cx="1944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ffer(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3716280"/>
            <a:ext cx="1944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ájlkez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16360" y="501300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5013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203640" y="414972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03640" y="3573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357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14972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ájlneve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ájlneveket alkotó karakterek lehetséges halmaza, a név hossza és szerkezete az adott operációs rendszer függv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vek több részből állhatnak, melyeket egy speciális karakter választ el egymás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abályok nagyon változatosak, esetleg egyszerre lehet kétféle szabály is érvény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nevezési 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ájlnév két részből áll, az első rész a név, ami 1..8 karakterből állhat, az elválasztó karakter a ‘.’, ez után következik a kiterjesztés ami maximum 3 karakterből állhat. A karakterek az ASCII kódtábla nagy és kisbetűi, számai, és speciális karakterek (pl. ~!@#$&amp;%^_-{}) közül kerülhetnek ki. A DOS nem tesz különbséget a kis és nagybetűk kö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ájlnevek hossza maximum 255 karakter lehet és tetszőleges számú ponttal elválasztott összetevőből áll. A UNIX megkülönbözteti a kis és nagybetűket, a speciális karakterek használatával vigyázni k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nevezési 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indows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eciális kettős elnevezésrendszert használ, részben a dokumentum-orientált szemlélet miatt, részben a DOS kompatibilitás miatt. Minden fájlnak két neve van egy rövid, és egy hossz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övid fájlnevek követik a hagyományos DOS 8+3 felépítést. A hosszú az 250 karakterből álló név plusz a max 3 karakteres kiterjesztéssel, a programok ebből képezik a rövid ne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hosszúnevek eleje megegyezik, akkor a W95 ezt úgy oldja meg, hogy veszi az első 6 karaktert, majd egy elválasztójelet (~), és egy sorszámot 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7:30:26Z</dcterms:created>
  <dc:creator>Nagymáté Péter</dc:creator>
  <dc:description/>
  <dc:language>en-US</dc:language>
  <cp:lastModifiedBy>Nagymáté Péter</cp:lastModifiedBy>
  <dcterms:modified xsi:type="dcterms:W3CDTF">2004-05-13T12:10:25Z</dcterms:modified>
  <cp:revision>14</cp:revision>
  <dc:subject/>
  <dc:title>Operációs rendszerek</dc:title>
</cp:coreProperties>
</file>